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306-601B-41CF-9F41-81806DA3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127-3853-42F8-B6AA-E691FD18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114-DFB1-49F8-A1F5-DCC1CAAD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B3F-2DB1-4586-BD52-3FC8E920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161-CA8C-4F9F-9EA7-0B5B381E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EAB-F5EE-4E7E-B4DC-C136606A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58F-550C-4872-B2E8-C306ACE9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E83-1D26-4336-AF8B-0CD64D8A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2A6-0556-48EF-BCCD-604BA88D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7C5-318A-4FE8-882B-F0D9F249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7D6-33ED-4061-9A6C-735ACABD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B4A-E741-4121-BF87-160FBF19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7A2D-3624-42F4-B6C7-AFC871F2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238400" cy="1486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" y="2565360"/>
            <a:ext cx="87822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angered and Threatened Species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ehicle is being used to survey the Federally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tened Piping and Snowy Plovers on the upper Tex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st under Texas Parks and Wildlife contact #18446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Six, Endangered Species Act of the US Fish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lif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24360" y="476280"/>
            <a:ext cx="16207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2:03:42Z</dcterms:created>
  <dc:creator>John Arvin</dc:creator>
  <dc:description/>
  <dc:language>en-US</dc:language>
  <cp:lastModifiedBy>John Arvin</cp:lastModifiedBy>
  <dcterms:modified xsi:type="dcterms:W3CDTF">2008-01-29T22:28:00Z</dcterms:modified>
  <cp:revision>3</cp:revision>
  <dc:subject/>
  <dc:title>Slide 1</dc:title>
</cp:coreProperties>
</file>