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50B-0F5C-437A-8428-5C9E37F9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122-A31C-4CFF-AFCC-5AFF1BEF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05C-3E0F-433B-A25F-DFC673FE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6C0-DE40-4AD6-8128-AD07E611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572-76E6-4125-8164-B2D4B098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984-401B-40EB-B523-39D92818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BA6-F4C2-4F5C-AF2F-46D756F2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BA5-5523-49A6-B9EE-A579ECC9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252-03BB-4C3F-AD14-896EE624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628-28CC-4B74-A5C2-63DBDB76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0CE-F837-4E3F-8697-05CFC13F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6E5-9B96-4770-B68B-2CD9CF9A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3889-AA2E-4BF2-9658-6485D6F91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238400" cy="1486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" y="2565360"/>
            <a:ext cx="87822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angered and Threatened Species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vehicle is being used to survey the Federally 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tened Piping and Snowy Plovers on the upper Tex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st under Texas Parks and Wildlife contact #184463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Six, Endangered Species Act of the US Fish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life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924360" y="476280"/>
            <a:ext cx="16207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2:03:42Z</dcterms:created>
  <dc:creator>John Arvin</dc:creator>
  <dc:description/>
  <dc:language>en-US</dc:language>
  <cp:lastModifiedBy>John Arvin</cp:lastModifiedBy>
  <dcterms:modified xsi:type="dcterms:W3CDTF">2008-01-29T22:28:00Z</dcterms:modified>
  <cp:revision>3</cp:revision>
  <dc:subject/>
  <dc:title>Slide 1</dc:title>
</cp:coreProperties>
</file>